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C73-63EA-44C9-9EDA-DDBA1504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EF6-6283-49E1-B213-F9DF0026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306AD-0FE9-4CBD-9775-A33F36F6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01837-C4A0-4500-A942-DE353B07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DD298-757F-4DA8-85BA-C2F9B12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9EFBA-C1C3-4D84-8008-597C0D4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8D64C-47A7-4E8C-AD6D-3910AF8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28286-24DA-4ABE-B0C7-D107CB87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3B4AA-FEAF-48F8-B81A-A5BD5BB8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A88E9-8FB5-4105-BE7B-044778E8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87005-2B40-4C72-96E4-8BB00B7C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4913B-E587-46E7-9809-6EFE8E98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119-B151-45FC-A157-40B6797B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6AD8B-1213-4D89-A356-C09D3C74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FDC94-D7DE-4899-8ED8-6CEA4D99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6D0B5-65E5-43F3-83E0-6770D379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40A0F-294E-4941-BF23-A117F208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B8E4A-B3B4-4518-A23A-451650A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48900-1416-4024-9DF5-6CDF20DD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286A5-C684-460B-B7C6-88E35445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03C9A-6D3F-4ED6-838D-DBCB8C2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C906E-D520-4A6C-843A-6ADC49AE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FEB94-15D4-43ED-A08F-E5559D27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75F-4334-4177-937A-56FD628F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E3BA5-D4CC-4205-8E50-4246CDAD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EBD2F-EA91-4F95-8C97-A7F4C3D1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B8983-BEB6-4805-A624-FEB42304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66FAF-53A9-4B1E-9053-B764F200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2A28C-844B-4029-AA7C-653F946B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87031-10A6-4258-B2FB-86C1C551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13100-80A3-4A5A-AF88-24701723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29D58-F595-4226-90E4-294AAA4B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46EDC-E8C2-4C71-B37C-7D476BA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A10F2-2904-4878-84EB-E90794F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ED4E-F325-4C61-81BF-9C14E8C9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CA6F7-F379-4CDA-9B26-B44451C9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BDC51-628E-4D11-8EBB-1655707D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B70B7-FC4C-4A25-8D10-8DD0DD54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1F0F9-9293-40AE-B44F-7ADEE3C5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432F1-50DA-400C-BB5B-A347E669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A41F0-28B5-4AC2-9853-3A3A5A56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F3F13-EF74-4C81-A209-9E1055A8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99B73-F021-4FCA-80E8-807E26BB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BE726-EF99-4B35-85B6-09906FE7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832D2-4ABE-4516-B7BC-CFC1412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9334-CD03-4A52-A01A-2787650D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2F6C5-1F0C-4B90-ACA1-8B68C9C0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A0284-0961-4094-A9A9-BE867FAF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67049-1EBE-4F59-87A6-5B86C266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E7465-9471-4E22-B5FC-C411D1C6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1629A-FA16-451F-AD70-95F0E6D4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61CD7-BE37-4DC7-BD00-621C31CC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F9DB4-A97B-48CB-BE12-D2A2025C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3D8BB-0207-4447-82E7-664520CE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D0137-E76A-4C9D-AE83-68179D99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DA3FF-167B-4EC2-A127-548330E3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1666-2B91-4275-BFBA-44B33199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A7BA8-D803-4BC4-A446-8196B347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CB3A5-98BF-45F1-A5BF-925D3ACE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D0307-CAD7-4452-9B46-CFEC93F9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B1996-E989-4C17-8B4F-34A7756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B7F89-2E8E-471E-A014-AE7C51B7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98781-6622-40F5-931A-FF90FAB4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04927-9605-419B-8012-D83EAA68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79D96-F43C-44AF-8F2F-8909560D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CCFBD-9BDC-410E-B4FB-03EA548E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318F8-4075-404C-95E0-B15D62C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1E66-48ED-4A4C-8DCF-85EA2DB6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4DAB4-7841-4D95-9DF8-A532453C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791C7-BB4C-49B9-BACA-CEB61EDF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A7928-C505-4170-81B6-07F32BB0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B7478-2139-4FA1-8783-A7139E5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A808B-A641-49DB-8B1B-4ED1CE81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639B7-A2C4-4653-B5AF-A49946C6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E8A6F-76B8-4A38-8CD8-D34A08E3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7D4AD-37AB-4359-96DD-D1ED0DFA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FD110-6257-4A45-8F46-3279A159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D75-4137-41CA-9482-B5ACB8D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C04E-CF34-41DA-A0A6-685BF5B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574E-05F4-42DA-9EC4-8558D523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A0F-52C6-4701-A1D0-29C9642E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FFFA-8939-471C-83F6-44872D25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9D25-3C83-43B9-8611-13AFA57C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2DDE-3CC7-43A9-BA9F-B2247C80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024B-D7AE-40C8-BF42-2C6E6703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71B9-6E45-412E-8C49-B05180CD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365B-7D9D-43FA-B0F8-F60489DB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D480-7304-4D43-B5F7-AC15E203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655F-A45E-4B1D-B1A5-83BE6992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2F25-CF51-4F88-ABD3-247422E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32AF-1644-4DE7-B1E9-78B185AA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E4E-97E8-4A80-AFFB-6836E1F2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92F5-34D8-458E-A4EC-005DE6D6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F7C8-558D-4C0D-8DD1-F059056C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A572-CA5A-4EC2-BAD8-23D07EE1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CB47-F10A-4D76-AD42-C78A850E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3F91-0041-4D2F-BFFF-1A8F62E4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EF8E-C102-44FA-BD87-5F6E6689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CA2C-1AC3-496F-957C-DA682BD5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38D88-ADCC-4E3C-B6F3-86B3AF2C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FF902-9F00-4A37-93A0-6FA507E7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6CD6C-74EC-4E49-950B-4781B16C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4CD-EF5A-4B07-9EF5-F7953E2D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8C672-3616-42F0-B42D-77F9D387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AB935-06A7-4594-AD3E-C0706E0E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19346-D197-4492-988D-E507F0AE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8F6FA-992E-44D6-8F4E-41450490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4E7D3-9683-4CD0-8987-4CE39BD7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3C0AB-67DF-4DDE-B147-6466CD1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7DC89-F9CD-4F80-BD63-59A61D31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52BC6-7967-497F-A833-9A1837BE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05731-0CE0-4D23-8A89-6EEB6AEE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E6A63-A733-4F50-B52A-B73B7654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D57-0D55-40A3-818F-6F422D41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F50FC-64BE-4AE7-B5E3-973A0910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62964-1C29-4CE8-ACD0-7753B7F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80F41-F49A-4A0C-88E2-8D2B0BE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AD3A6-3D6B-49EF-B2E9-B1E3A56B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5801E-1266-479F-B5A9-CE36C864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B346E-324A-41F5-8902-10534F7F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4BC76-B659-4237-8791-19F06C17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CA7DD-81D6-4BA8-801E-07723CC2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80DC3-EC80-4E50-B6E3-CD2C5914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69950-369F-46EA-B97D-A5429832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DD2-2D6D-4F17-B5F5-1B3D561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F1F3F-8C5C-4751-95F8-8A197EFA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2525-6A0F-4284-ACAC-BB7A2D3E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191FC-FF87-46E0-B46D-DE3D18F4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5BD70-967B-49D4-B79A-B3C842D0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66DEF-862B-425F-8617-D560A041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EF004-D2A2-4F92-814F-56690E6C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FA8AE-9C8C-4A4E-9522-3301CAC9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EFCE4-C2A8-4EBE-847D-1B062C7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8E913-4610-4D32-9EDE-7C8DF05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C31CB-0A80-4AD1-B073-3A8E75E0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41A-9A71-4D63-A92F-015198C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C48F0-F436-4CB4-9A0B-A4D19EA8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19412-4971-4E28-8A3A-144AFAEB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66719-EE0B-4B54-BBE5-E5D05371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A6932-3119-4F38-80F5-CD59A1FD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F0052-06AE-4D55-A972-37A77414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627E8-384B-4B0F-9D21-F638EE35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DEAFB-CC80-4547-ADA8-06FECC6E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FD9F-2C39-4E11-B90B-CDF784F3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D53B1-8686-4A1C-A7F3-57A3466C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2CECF-E7E6-4163-8EE1-3668F07F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D44-0E3B-4437-B96B-14040AC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2295D-BA58-4013-A36B-5BACA3D7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EEFFA-5A12-4FB8-B6B1-8C481ABA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C738E-8C82-4E58-B661-4D9807A8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F3387-86D9-4D15-AB35-93F4536A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EA384-152E-4201-97DC-18E85BD9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FDE1D-9946-4582-A2ED-A8EC45A5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9808F-2C71-458A-91B8-47EB4A29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05A5A-AA3D-4B9A-B409-580296E1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0063E-2661-453E-9ECA-FCBD9AF4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F9F15-204F-42E0-9652-C2FCA7D5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9E6-E34D-48A0-8FE8-245DEC0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4A531-5A68-4195-9A8C-DFD71941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C0060-9C24-4CCC-88A6-A25B43F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94557-8B86-4155-86F8-7FA6320F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925D3-C0EE-4EB7-A0B3-5BDBB9B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D7327-6661-4DEA-8654-7A4D46A3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8B8B-2C1F-4386-B8DA-9152B071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B6204-247D-44CC-A583-C6E62E41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1FF5F-DEC6-4410-9EBD-BA4F7879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728C2-BC71-4CA4-9AAA-883214F7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0AD35-24D4-44A2-917F-93FA9FD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63AA-363D-4F06-895F-4F5A844B2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22D6-AE98-4E28-BE51-4817E87D87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9240-81E3-4CBE-B15C-E0D3AECB0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6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3B01-168A-4CCD-914C-28B615779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2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32F9-7DCE-4AA6-ADD9-80742A7109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9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CB98-2E2B-48BC-8E67-7D629FC7ED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7EF3-F1A7-4D46-AA93-E73B74A2A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D809-667D-4F16-9B8B-57F62E91AA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7120-7AB3-4906-B7E1-9A7A79318C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48A-87FF-439C-9377-73886819A7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3145-FEE1-4498-93FA-EE5F5B98D6B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4B9C-4C35-45D5-84BC-9BC47645A0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134F-B4EE-4138-9CD5-CE66B03656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1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2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3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5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058A-242B-4559-98EE-5A7E2DF87D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asa por Vany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ya 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 pati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patio. Es muy impresion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457200" y="2111400"/>
            <a:ext cx="4495680" cy="4232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asa peque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Tahoma"/>
              </a:rPr>
              <a:t>ῆ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coberti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 muy pe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y viej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>
            <a:lum bright="6000"/>
          </a:blip>
          <a:srcRect l="8768" t="15514" r="0" b="0"/>
          <a:stretch/>
        </p:blipFill>
        <p:spPr>
          <a:xfrm>
            <a:off x="4114800" y="2124000"/>
            <a:ext cx="5029200" cy="473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 un B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ῆ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2"/>
          <a:stretch/>
        </p:blipFill>
        <p:spPr>
          <a:xfrm>
            <a:off x="456840" y="1981080"/>
            <a:ext cx="4041720" cy="411480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muy fabulo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3"/>
          <a:stretch/>
        </p:blipFill>
        <p:spPr>
          <a:xfrm>
            <a:off x="838080" y="2928960"/>
            <a:ext cx="5181840" cy="3929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Coci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muy impresionat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s un garaj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garaje. Es muy bonit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609588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 un dormitorio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 un dormitorio. Es muy modern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4419360" cy="3670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Es un jard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Es un jardin. Es muy grand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4648320" cy="3483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 un comed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comedor. Es muy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04920" y="2266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sala. Es muy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1676520" y="1965240"/>
            <a:ext cx="6172200" cy="492120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1108080" cy="984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7:07Z</dcterms:created>
  <dc:creator>dsfg</dc:creator>
  <dc:description/>
  <dc:language>en-US</dc:language>
  <cp:lastModifiedBy>dsfg</cp:lastModifiedBy>
  <dcterms:modified xsi:type="dcterms:W3CDTF">2012-10-25T18:03:45Z</dcterms:modified>
  <cp:revision>7</cp:revision>
  <dc:subject/>
  <dc:title>La Casa por Vanya</dc:title>
</cp:coreProperties>
</file>